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26E-8351-46B2-BDEA-CA2FFE43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05B-FBBF-46CE-A21A-B7FDFCD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21B-B58A-4353-9B44-CCB7FE3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CC9-C8E9-42B0-8500-5042C935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F8F1-9434-4D70-B516-535F9019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74B8-B579-4E41-BFBC-4F81762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7CC-35A3-4D7D-B5A1-285AA180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B079-920F-4EAD-BECD-350ECCD9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2917-B0C0-488E-B7B6-6C77E2E5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9B61-0D47-42C7-BF5A-C4F953B2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ED4B-4F0A-45F5-A373-CD1A38C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2CDF-6F4C-4B19-9294-C2606A2A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313-E9EA-465D-A2AD-79C60BC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F0AD-119A-4673-81C7-9074B11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45C9-9504-4E92-A719-FC3BFDD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CB8A-D984-4B10-81CD-599137FF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2B84-03EC-4EE4-8F19-223D608A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F86-5AD7-471F-8DE9-58380E75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973-17C0-4EC0-A684-5F5E846B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1CE-8FCB-43C8-9A2C-7D841C5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6B3-ABB8-46A8-B5C6-CD3597B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25A-5C10-45F1-B9AC-276F07B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F62-7721-4069-B892-3EBEB4E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8FB-555E-475E-8519-778C9755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C39C-4D09-4CD3-A300-0515CCDD31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FDF8-8212-41D6-A691-F7B5E7BE42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Carbohydrate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Lipid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Common Nam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i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ar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ut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209680" cy="335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14600" cy="152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ts of Carbon, Hydrogen and very little Oxy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iglycer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29000" y="4038480"/>
            <a:ext cx="3429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286000"/>
            <a:ext cx="990720" cy="411480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4114800"/>
              <a:gd name="textAreaBottom" fmla="*/ 4066560 h 4114800"/>
            </a:gdLst>
            <a:ahLst/>
            <a:rect l="textAreaLeft" t="textAreaTop" r="textAreaRight" b="textAreaBottom"/>
            <a:pathLst>
              <a:path w="21600" h="89687">
                <a:moveTo>
                  <a:pt x="3600" y="0"/>
                </a:moveTo>
                <a:arcTo wR="3600" hR="3600" stAng="16200000" swAng="-5400000"/>
                <a:lnTo>
                  <a:pt x="0" y="86087"/>
                </a:lnTo>
                <a:arcTo wR="3600" hR="3600" stAng="10800000" swAng="-5400000"/>
                <a:lnTo>
                  <a:pt x="18000" y="89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YC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362320"/>
            <a:ext cx="342900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638680"/>
            <a:ext cx="34290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glyce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1. 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very unhealthy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2. Monoun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better for your health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3. Polyunsaturated Fats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(best for your heal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ored long term energy for our ce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sulation to keep us war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tective Covering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ructure of Cell Membran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rown Paper Towel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leaves an oily mark behind after d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Protein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Common Nam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ga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arch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26668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e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ea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u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gg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89872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2667240" cy="220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514600" cy="2017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990720" y="4495680"/>
            <a:ext cx="236196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, Oxygen and Nitro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mino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ructur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ratin, Colla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por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emoglobin (red blood cell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nzym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ata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L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Suc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ormon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ulin, Testosterone, Estro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 of your bo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zymes to speed up chemical reac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 and Recognition of ce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vement of musc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ion between cel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mical Hormo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iure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solution changes from Blue to Purple in presence of protei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Notes: The Nucleic Acids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The Chemistry of Lif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ive 2.01 – Compare and Contrast the structure and functions of the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, Oxygen, Nitrogen, and Phosphor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ucleot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Food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ble Sug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nd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st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rea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228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69000" y="4811760"/>
            <a:ext cx="2475000" cy="2046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2133720" cy="153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33520" y="3916440"/>
            <a:ext cx="25700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NA = deoxyribonucleic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NA = ribonucleic aci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TP = adenosine triphospha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enetic code to create all of the proteins (traits) of your bod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Organic Compound Results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anu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ins and Lip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ato Chip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pids and 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dy C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osacchari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es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pids, Protein and 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ble Suga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none – disacchari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lement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rbon, Hydrogen and Oxyg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ways in a 1:2:1 Rat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: C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Building Block (monomer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nosacchar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terally means 1 suga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Structure (picture)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743200"/>
            <a:ext cx="2743200" cy="2286000"/>
          </a:xfrm>
          <a:prstGeom prst="hexagon">
            <a:avLst>
              <a:gd name="adj" fmla="val 30000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5053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2895840" cy="403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248520" y="4952880"/>
            <a:ext cx="16002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Exampl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. Mono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uc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Fruc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Lac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. Di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c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(table suga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. Polysaccharides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arch, Cellu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ose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, Glyco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Uses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rst source of energy for our ce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Testing Procedure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Benedicts solution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tests for small sugars by changing from blue to brick re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Iodin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– tests for large starches by changing from brown to dark purpl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6:33:52Z</dcterms:created>
  <dc:creator>teacher</dc:creator>
  <dc:description/>
  <dc:language>en-US</dc:language>
  <cp:lastModifiedBy>teacher</cp:lastModifiedBy>
  <dcterms:modified xsi:type="dcterms:W3CDTF">2009-02-11T22:21:40Z</dcterms:modified>
  <cp:revision>11</cp:revision>
  <dc:subject/>
  <dc:title>Notes: The Carbohydrates</dc:title>
</cp:coreProperties>
</file>